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CEB-FA4C-4075-A17B-86C9E44D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9F1-8BF4-4477-915E-EC4CE25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11E-950E-4B9C-9974-B540ED24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7D5-E729-4D8E-9D9A-BC559590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F85-AEE3-41F9-A80F-61A1B0F2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870-41EB-4F27-A80B-1E7B48A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A5F-D302-411D-9935-169C4E3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D16-A246-421B-9ACC-04800336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C6B-CB27-420C-A399-2FC074D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B99-5BC1-4352-BCC0-140562B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0C7-2FB8-4F7F-9635-5CA7939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FE5-AE11-456C-A76F-DD8CB501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459A-EB72-4318-9573-1138A5EA8C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alistic Fic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hat is realistic fiction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Believable character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Believable setting and plot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Problem to be solved or character wants something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ell-developed, credible character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haracter changes over time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haracter speaks and acts in a believable wa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tory takes place in modern time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7:42:50Z</dcterms:created>
  <dc:creator>AAPS</dc:creator>
  <dc:description/>
  <dc:language>en-US</dc:language>
  <cp:lastModifiedBy>Carrie Dworkin</cp:lastModifiedBy>
  <dcterms:modified xsi:type="dcterms:W3CDTF">2005-08-12T18:38:19Z</dcterms:modified>
  <cp:revision>4</cp:revision>
  <dc:subject/>
  <dc:title>Realistic Fiction Writing</dc:title>
</cp:coreProperties>
</file>